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A928-E6DA-4A9B-862C-A805DBC9D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AB71-FEAA-4B35-8287-D0A35245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C8AE-03B4-4A15-9887-278D090A6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1959-49B6-4CB0-904E-71DD720CE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A076-559B-4352-A1A5-E218F608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6DE4-CE7F-49A2-81FB-11901833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8802-43D4-4EA5-AED3-453ED30B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5940-ACF0-4A82-92E8-F96627B5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C315-C831-4500-9ED5-74907E22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F373-D2BC-4C55-A65F-BB4EFAE1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8749-0C52-4474-AC12-90734323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2363-B5F1-48B8-BB7A-29060583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0D33-11BA-40FB-8AA1-5863DB8C1A08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00"/>
                </a:solidFill>
                <a:latin typeface="Calibri"/>
              </a:rPr>
              <a:t>Processes Of Coastal Erosio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Attr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ck on rock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cles carried by the waves crash against each other and are broken up into smaller partic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orrasion (Attritio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Rock on cliff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cles carried by the waves crash against the cliffs, eroding the cliff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Corro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Rusting / dissolving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lt in the seawater slowly dissolves the cliff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aterial produced is carried away by the process of 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Hydraulic 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Pressuring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ater traps air in cracks and caves in the roc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air is compressed by the incoming waves placing great pressure on the rocks, causing them to crack eventua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Wave Pou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Smashing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ep waves have great energy, which is released forward as they break against the cliff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ant pounding can cause great damage to both natural cliffs, and man-made sea defen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storm conditions the waves may create up to 30 tonnes per square metre of press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Sub-Aerial 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mpact of rainwater, wind and frost on the cliff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inwater can cause surface ero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st shattering can occur in colder clima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inwater can also increase the chances of mass movement occurr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nd (Aeolian) erosion can aid in the erosion of the cliff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23:34:14Z</dcterms:created>
  <dc:creator>Dell_02</dc:creator>
  <dc:description/>
  <dc:language>en-US</dc:language>
  <cp:lastModifiedBy>Dell_02</cp:lastModifiedBy>
  <dcterms:modified xsi:type="dcterms:W3CDTF">2011-01-26T23:41:58Z</dcterms:modified>
  <cp:revision>1</cp:revision>
  <dc:subject/>
  <dc:title>Processes Of Coastal Erosion</dc:title>
</cp:coreProperties>
</file>